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B9C5-08B4-4CDE-A7B4-4970FC6E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5BCA-2662-4129-9A77-6FEC4396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9AFC-8664-4925-9D76-EFC2B565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D3A-47A2-4EBB-AC22-A1548BE4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8A17-94CD-454C-8028-9C980225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D4AB-1C3B-44A7-9F7F-EB821ECE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531B-9A88-479B-A40E-7CCCED04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006B-1200-4C51-91AC-91235FA6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CF00-C6F7-4245-97EB-2FD750BA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F147-04A5-4EE3-A7E2-0AAADBAA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C1A8-C66A-44D6-862F-E19D58B6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424-0F11-4421-8DC4-3499AA87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0693-6C27-464E-98FC-2BD4387A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7414-4597-42B3-8FE1-2288F9B4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F5CB-9E87-46C2-962D-9C6E7FDE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5ECF-2BDB-4F3E-953B-8D22D0C6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B004-F89A-4617-9601-DE189096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787-D615-4432-99C4-A0D339E1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A1CB-06EC-4E9B-8833-4DBC08D0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7A97-C4B4-4677-988A-14FDF3D8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DD83-061B-4149-9985-DC904A0E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3C80-6FF4-4BBD-BDAB-01147D11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A09-1452-4093-B040-708CDD25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0E77-F439-483A-9EAA-4C6C46A3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8110-E799-4B10-81C0-D7844E19A74C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06F2-8BDD-4A6D-943E-8F2EE61925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8D57-15CC-446F-8D35-47C5577B38B9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9696-F37C-41F1-94F5-5E16FF56668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2741760" cy="403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280" y="0"/>
            <a:ext cx="8991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Мыслитель и погонщик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Мотивация персона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386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кладчик: Иван Стрелк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зентация: Владимир Вол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971440" y="1980720"/>
            <a:ext cx="6172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Человек и организ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ирамида Масл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 o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философа и погонщиков: </a:t>
            </a:r>
            <a:r>
              <a:rPr b="1" i="1" lang="ru-RU" sz="3200" spc="-1" strike="noStrike">
                <a:solidFill>
                  <a:srgbClr val="ffffff"/>
                </a:solidFill>
                <a:latin typeface="Lucida Console"/>
              </a:rPr>
              <a:t>нет универсальных ре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о всё это на практик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угая сторона мон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6094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66"/>
                </a:solidFill>
                <a:uFillTx/>
                <a:latin typeface="Times New Roman"/>
              </a:rPr>
              <a:t>План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971440" y="1980720"/>
            <a:ext cx="6172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еловек и организ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ирамида Масл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b o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облема философа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гонщиков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нет универсальных решени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то всё это на практике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Другая сторона мон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6094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66"/>
                </a:solidFill>
                <a:uFillTx/>
                <a:latin typeface="Times New Roman"/>
              </a:rPr>
              <a:t>План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 Narrow"/>
              </a:rPr>
              <a:t>Человек и организация</a:t>
            </a: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Проблема взаимодействия человека и организации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0" y="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4290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Чего хотят люди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 Narrow"/>
              </a:rPr>
              <a:t>Пирамида Маслоу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828800" y="2057400"/>
          <a:ext cx="609588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057400"/>
                    <a:ext cx="609588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0" y="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 Narrow"/>
              </a:rPr>
              <a:t>Ab ovo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66520" y="1294920"/>
            <a:ext cx="61722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43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лассические теории мотивации не могут дать универсального рецепта, как мотивировать конкретного сотруд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ru-RU" sz="3600" spc="-1" strike="noStrike">
                <a:solidFill>
                  <a:srgbClr val="ffffff"/>
                </a:solidFill>
                <a:latin typeface="Garamond"/>
              </a:rPr>
              <a:t>Большинство из них тяготеет к количественному рассмотрению некоторых неизмеримых таким образом на практике вещ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0" y="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9913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Narrow"/>
              </a:rPr>
              <a:t>Проблема философа и погонщиков:</a:t>
            </a:r>
            <a:br>
              <a:rPr sz="4400"/>
            </a:br>
            <a:r>
              <a:rPr b="1" i="1" lang="ru-RU" sz="4200" spc="-1" strike="noStrike">
                <a:solidFill>
                  <a:srgbClr val="ffff66"/>
                </a:solidFill>
                <a:latin typeface="Lucida Console"/>
              </a:rPr>
              <a:t>нет универсальных решений</a:t>
            </a: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400" y="2590920"/>
            <a:ext cx="6858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Современная мотивация базируется на индивидуализация управления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0" y="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 Narrow"/>
              </a:rPr>
              <a:t>Что всё это на практике</a:t>
            </a: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60958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632880" indent="-632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Правильный подбор персон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32880" indent="-632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Корпоративные тренин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32880" indent="-632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Аттестация персон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32880" indent="-632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Корпоративные мероприятия и проек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32880" indent="-632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Доверительное об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0" y="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 Narrow"/>
              </a:rPr>
              <a:t>Другая сторона монеты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8120" y="25909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 нарушать негласный догов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Ценить навыки сотрудника, которые он сам в себе цен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 игнорировать на первый взгляд неудачные идеи сотруд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идеть достиж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одвигать по карьерной лестниц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0" y="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371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Как не демотивировать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04-02-06T14:19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