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6B5-BAC3-49C8-B1C6-20E9C1A1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9258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4130640"/>
            <a:ext cx="9258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D7F-2B07-4C8E-8E9E-917A491B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413064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413064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41B-918B-499D-B734-47933D25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98108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98108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413064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413064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413064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950-1E24-4B80-9A9B-F04467F2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2BEA-7D11-4383-9D31-65A19318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080" y="1981080"/>
            <a:ext cx="925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550F-1F1B-4696-94F8-E0EB81B3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925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F7F1-F9A2-4EB8-A87A-5D789708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6BC2-AFDC-4BCA-8804-6F4D9A44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23D3-6AF8-4B63-8AD6-25B390D4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4080" y="380880"/>
            <a:ext cx="92581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139A-592A-44ED-9780-81DFD846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080" y="413064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B8FC-62B2-4C12-B47D-27C950B6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981080"/>
            <a:ext cx="925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F06-FA33-40C3-986E-FE670C36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8160" y="413064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C955-BCF6-436C-9A13-6EB32D9E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080" y="4130640"/>
            <a:ext cx="9258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381F-F072-4F1C-BA22-FC24AA8F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9258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" y="4130640"/>
            <a:ext cx="9258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ABF-2433-4D65-8C9E-3B814557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413064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8160" y="413064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2CC1-5032-437F-A00F-CF645285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4280" y="198108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74480" y="198108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080" y="413064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4280" y="413064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74480" y="4130640"/>
            <a:ext cx="298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F907-E860-4743-9E2D-8C04A757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925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895-0859-45A5-8827-9D4A045A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244-E9A0-4338-BB1E-DB83DBB4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A1D-4C32-40D3-9A89-2B639215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380880"/>
            <a:ext cx="92581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658-725E-41C1-8552-CFF2152C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413064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2E2-D9DE-434F-83A4-88FBFF3F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413064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C6C-E615-4FDA-BB47-978A114B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981080"/>
            <a:ext cx="451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4130640"/>
            <a:ext cx="9258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56F-0E76-4EC8-BAED-AF81B771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380880"/>
            <a:ext cx="9258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981080"/>
            <a:ext cx="925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5F26-B07F-407B-9724-DB4240C9AC1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E048-18F1-4B51-A1A6-D5A71306A5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1676520"/>
            <a:ext cx="8744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F056-B41F-46A2-AD8A-37823ECD0F7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9FAE-B9DC-456B-965D-E243041964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334120"/>
            <a:ext cx="512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Курсовая работа Зурабиани Анны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на те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Мифы о Че Геваре.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6716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62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77960" y="30384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н и его победа.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560" y="2056680"/>
            <a:ext cx="520992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6 ноября, Че - главой Центрального банк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440" y="2910960"/>
            <a:ext cx="6400800" cy="201420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марте 1965: "Я официально отказываюсь от своего поста в руководстве партии, от своего поста министра, от звания команданте, от моего кубинского гражданства. Официально меня ничто больше не связывает с Кубой, кроме лишь связей другого рода, от которых нельзя отказаться так, как я отказываюсь от своих постов"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743880" y="1219320"/>
            <a:ext cx="3355920" cy="50292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4381560" y="1447920"/>
            <a:ext cx="236232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81560" y="1447560"/>
            <a:ext cx="0" cy="6094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4800600"/>
            <a:ext cx="0" cy="99072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5791320"/>
            <a:ext cx="281952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448440" y="227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н и смерть.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760" y="2014920"/>
            <a:ext cx="4876920" cy="91692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 октября 1967 года Че попал в западню в ущелье Эль-Юро на юго-востоке Болив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" y="3523320"/>
            <a:ext cx="449820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гендарный партизан попал в плен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440" y="4834440"/>
            <a:ext cx="4876920" cy="119124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 октября примерно в 13.30 унтер-офицер Ма-рио Теран из автоматической винтовки М-2 застрелил Че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515280" y="1676520"/>
            <a:ext cx="3557520" cy="419076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4915080" y="5943600"/>
            <a:ext cx="0" cy="6094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15080" y="6553080"/>
            <a:ext cx="373356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648640" y="5866920"/>
            <a:ext cx="0" cy="6858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10160" y="3733920"/>
            <a:ext cx="190512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15080" y="990360"/>
            <a:ext cx="0" cy="11430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990720"/>
            <a:ext cx="259056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05640" y="990720"/>
            <a:ext cx="0" cy="6858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758680" y="303840"/>
            <a:ext cx="50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н и его жизнь после смерти.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4960" y="1980360"/>
            <a:ext cx="560016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елет с биркой "Е-2" опознают как останки Че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640" y="2971080"/>
            <a:ext cx="571140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 октября тела Че погребли в братской могиле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760" y="3885480"/>
            <a:ext cx="5334120" cy="64260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17 октября 1997 года останки Че перевезли в мавзоле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760" y="5043600"/>
            <a:ext cx="2895480" cy="64260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ремя Че продолжается!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362640" y="2514600"/>
            <a:ext cx="3429000" cy="258444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4229280" y="1295280"/>
            <a:ext cx="320040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29280" y="1295280"/>
            <a:ext cx="0" cy="6858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29680" y="1295280"/>
            <a:ext cx="0" cy="121932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752800" y="3200400"/>
            <a:ext cx="6094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00880" y="4191120"/>
            <a:ext cx="76176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2240" y="5486400"/>
            <a:ext cx="35816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43880" y="5105520"/>
            <a:ext cx="0" cy="3808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1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-190440" y="-457200"/>
            <a:ext cx="10667880" cy="7620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5105520"/>
            <a:ext cx="611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зентацию подготовил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вловский Оле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митриев Артё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ндин Андр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0630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19262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23960" y="1066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е Гева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080" y="2306520"/>
            <a:ext cx="5105160" cy="146556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звище "Че" (арг.) друг", "товарищ" он получил после того, как познакомился в Мексике с Фиделем Кастр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 тех пор для всех он известен как Че Гев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2760" y="3809880"/>
            <a:ext cx="0" cy="11430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2760" y="4952880"/>
            <a:ext cx="35812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34040" y="762120"/>
            <a:ext cx="3925800" cy="51814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9080" y="230040"/>
            <a:ext cx="1013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Участь революционера-авангардиста возвышенна и печальна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Эрнесто Че Гевара</a:t>
            </a:r>
            <a:r>
              <a:rPr b="0" lang="ru-RU" sz="2000" spc="-1" strike="noStrike">
                <a:solidFill>
                  <a:srgbClr val="475ec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3480" y="190512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4 июня 1928 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480" y="25909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 Разари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200" y="333864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рнесто Гевара Линч де ла Сер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4200" y="412596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ман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6880" y="4862520"/>
            <a:ext cx="21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ьберто Кор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05440" y="1371600"/>
            <a:ext cx="3882960" cy="45720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66760" y="1752480"/>
            <a:ext cx="4572000" cy="388620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38760" y="4648320"/>
            <a:ext cx="10666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87480" y="45864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н и его Сем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440" y="1295280"/>
            <a:ext cx="6753600" cy="64260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ец - Эрнесто Гевара Линч, в его жила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кла кровь ирландского революционера Патрика Линч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320" y="2438280"/>
            <a:ext cx="6962400" cy="91692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ть - донья Селия де ла Серна и де ла Льос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гла похвастаться тем, что ведет свой род от последне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анского вице-короля Перу - Хосе де ла Серна-и-Инохо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3400" y="3938760"/>
            <a:ext cx="5943600" cy="291924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6819840" y="1600200"/>
            <a:ext cx="144792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7760" y="1600200"/>
            <a:ext cx="0" cy="22860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0480" y="3429000"/>
            <a:ext cx="0" cy="17524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0480" y="5181480"/>
            <a:ext cx="190476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67560" y="1143000"/>
            <a:ext cx="3108240" cy="401472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603680" y="38268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н и 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280" y="1219320"/>
            <a:ext cx="6005520" cy="91692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рнесто всегда ходил неопрятный, плохо одеты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л дерзок до крайности – такое повед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словлено социальным статусом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2406600"/>
            <a:ext cx="6494760" cy="64260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пленил сердце Чинчины Феррейра - дочери од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 богатейших помещиков Кордо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60" y="3397320"/>
            <a:ext cx="6176160" cy="64260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Чинчина была нежной, интеллигентной, стройн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чувственными зелеными глазами.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38760" y="4114800"/>
            <a:ext cx="0" cy="19810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38760" y="6095880"/>
            <a:ext cx="350532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344080" y="5181480"/>
            <a:ext cx="0" cy="9144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86680" y="2743200"/>
            <a:ext cx="3808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5440" y="1752480"/>
            <a:ext cx="3812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286680" y="685440"/>
            <a:ext cx="0" cy="10666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86680" y="685800"/>
            <a:ext cx="304776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34440" y="685800"/>
            <a:ext cx="0" cy="457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437360" y="4586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н и его ми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760" y="1219320"/>
            <a:ext cx="53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юные годы, им владела мечта - спасти мир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0640" y="12193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бой цен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5840" y="1919160"/>
            <a:ext cx="85572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та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2920" y="2514600"/>
            <a:ext cx="213156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бил живопис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66000" y="3048120"/>
            <a:ext cx="290556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 рисовал акварель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68160" y="4876920"/>
            <a:ext cx="270144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влекался шахма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9840" y="3657600"/>
            <a:ext cx="282348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ал в футбол и регб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34320" y="4267080"/>
            <a:ext cx="302292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нимался планеризм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60600" y="5410080"/>
            <a:ext cx="310068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нял плоты по Амазонк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9760" y="6019920"/>
            <a:ext cx="229896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жал велоспор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34040" y="1905120"/>
            <a:ext cx="3017880" cy="45720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238560" y="6705720"/>
            <a:ext cx="411480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0160" y="5715000"/>
            <a:ext cx="1523880" cy="64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29280" y="5105520"/>
            <a:ext cx="190476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57880" y="4572000"/>
            <a:ext cx="1676160" cy="64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81560" y="3886200"/>
            <a:ext cx="1752480" cy="64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1560" y="3352680"/>
            <a:ext cx="1752480" cy="64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5760" y="2819520"/>
            <a:ext cx="2438280" cy="612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7840" y="1676520"/>
            <a:ext cx="44960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353360" y="6476760"/>
            <a:ext cx="0" cy="2286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38560" y="6400440"/>
            <a:ext cx="0" cy="30492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43880" y="1676160"/>
            <a:ext cx="0" cy="2286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47840" y="1676160"/>
            <a:ext cx="0" cy="2286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20040" y="23004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н и его болез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8840" y="2057400"/>
            <a:ext cx="648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знаю! Я знаю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отсюда уйду, меня поглотит река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моя судьба, сегодня я должен умереть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нет, сила воли всемогущ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гом препятствия, я понимаю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не хочу уходи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мне суждено умереть, пусть я умру в этой пеще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ли? Что могут мне сделать пу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моя судьба – умереть от удушь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дьбу можно изменить силою во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ереть? Да. Но изрешеченным пуля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колотым штыками. Да, н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удушья – нет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вить память более прочную, чем моё им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7 января 1947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00" y="838080"/>
            <a:ext cx="97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мая 1930 года у него случился первый приступ аст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Астма навсегда. Так сказать смерть на всю жизнь… Умирать живя и жить умирая…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 Ге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3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3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3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167720" y="6094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Снова он.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1371600"/>
            <a:ext cx="5791320" cy="64260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глец. Его детское озорство стало превращаться в чистый воды авантю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440" y="3200400"/>
            <a:ext cx="6019920" cy="119124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, наглец… Его друг Эчагуэ, вспоминает: у тетушки Беатрис, у которой Эрнесто жил какое-то время, была молоденькая хорошенькая служанка, с которой Тете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120" y="5029200"/>
            <a:ext cx="4603320" cy="36828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носный и замечательный Эрнесто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67560" y="1295280"/>
            <a:ext cx="3463920" cy="495324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4610160" y="5257800"/>
            <a:ext cx="205740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10360" y="3733920"/>
            <a:ext cx="45720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81760" y="1752480"/>
            <a:ext cx="30492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286680" y="838080"/>
            <a:ext cx="0" cy="9144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6680" y="838080"/>
            <a:ext cx="10666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53360" y="838080"/>
            <a:ext cx="0" cy="457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343c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60000" y="228600"/>
            <a:ext cx="70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н, его жизненный путь и его революц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080" y="838080"/>
            <a:ext cx="8153280" cy="70380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рнесто избирает марксизм, но н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ционально-догматическ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а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мантически-идеализированны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83520" y="2590920"/>
            <a:ext cx="3097800" cy="45972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стание на Куб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09760" y="3733920"/>
            <a:ext cx="2133720" cy="45972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 рани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040" y="5486400"/>
            <a:ext cx="8626680" cy="91692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оло полуночи 31 декабря 1958 года  родители Эрнесто получают от него весточку: "Дорогие старики! Самочувствие отличное. Израсходовал две, осталось пят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43480" y="3886200"/>
            <a:ext cx="8380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381560" y="3886200"/>
            <a:ext cx="0" cy="53352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81560" y="4419720"/>
            <a:ext cx="137160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91440" y="5029200"/>
            <a:ext cx="0" cy="45720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53160" y="2209680"/>
            <a:ext cx="4235400" cy="286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7886880" y="1600200"/>
            <a:ext cx="0" cy="6094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15080" y="2514600"/>
            <a:ext cx="8380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76640" y="2895480"/>
            <a:ext cx="83844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15080" y="2514600"/>
            <a:ext cx="0" cy="3808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t</cp:lastModifiedBy>
  <dcterms:modified xsi:type="dcterms:W3CDTF">2004-02-06T11:34:2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