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5.jpeg" ContentType="image/jpeg"/>
  <Override PartName="/ppt/media/image10.jpeg" ContentType="image/jpeg"/>
  <Override PartName="/ppt/media/image12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ABE-1C4F-4E43-9776-9810E724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0FE-DE14-438C-8B0E-8223092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77B-7FF5-47D1-9C3E-9CE2872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926-CEC3-4B6C-8C72-C4D01756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94A-2E2C-4E7F-A800-05E64795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446-CB6A-4F33-BCB6-7EB5930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8CF-41BE-4C1D-A600-83BE3801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2C9-642E-4191-B02A-BC0B0EE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910-15E3-4CB4-A42D-A2CA0A8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CF9-3305-4795-BF58-B3C88E3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B8F-C6C8-4F41-B151-A34E98A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5FB-3605-4A7A-9727-ED3092A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F1C-C620-4495-92B5-65D8D2DE7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520" y="3962520"/>
            <a:ext cx="3124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6699"/>
                </a:solidFill>
                <a:latin typeface="Arial"/>
              </a:rPr>
              <a:t>«Участь  революционера-</a:t>
            </a:r>
            <a:br>
              <a:rPr sz="1400"/>
            </a:br>
            <a:r>
              <a:rPr b="0" i="1" lang="ru-RU" sz="1400" spc="-1" strike="noStrike">
                <a:solidFill>
                  <a:srgbClr val="336699"/>
                </a:solidFill>
                <a:latin typeface="Arial"/>
              </a:rPr>
              <a:t>авангардиста  возвышенна</a:t>
            </a:r>
            <a:br>
              <a:rPr sz="1400"/>
            </a:br>
            <a:r>
              <a:rPr b="0" i="1" lang="ru-RU" sz="1400" spc="-1" strike="noStrike">
                <a:solidFill>
                  <a:srgbClr val="336699"/>
                </a:solidFill>
                <a:latin typeface="Arial"/>
              </a:rPr>
              <a:t>и  печальна…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2209680"/>
            <a:ext cx="304812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6699"/>
                </a:solidFill>
                <a:latin typeface="Arial"/>
              </a:rPr>
              <a:t>Эрнесто Че Гевара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DE1-149A-422B-9FDB-96A2A8A1769D}" type="slidenum">
              <a:t>10</a:t>
            </a:fld>
          </a:p>
        </p:txBody>
      </p:sp>
    </p:spTree>
  </p:cSld>
  <p:transition spd="med" advTm="6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0D4-DC1B-4C8B-B51B-6A00CF6CC412}" type="slidenum">
              <a:t>11</a:t>
            </a:fld>
          </a:p>
        </p:txBody>
      </p:sp>
    </p:spTree>
  </p:cSld>
  <p:transition spd="med" advTm="6000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6019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Увлечения обр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бинцы приходят на площадь  Революции в Гаване к мемориалу Хосе  Марти, чтобы поклонится гробам с останками отряда Че Гев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одной стороны, Че - символ возвращения к ценностям и идеализму 60-х, с другой – рекламный образ, беспроигрышный брэ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докс – человек, боровшийся против буржуазности общества, сам стал символов этого общества, источником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---------------------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0133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олько эта, авторская фотография стоит 30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740040" y="4800600"/>
            <a:ext cx="136548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4724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433548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C2B-5670-4819-8F60-D645D1136FCB}" type="slidenum">
              <a:t>12</a:t>
            </a:fld>
          </a:p>
        </p:txBody>
      </p:sp>
    </p:spTree>
  </p:cSld>
  <p:transition spd="med" advTm="60000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50"/>
                            </p:stCondLst>
                            <p:childTnLst>
                              <p:par>
                                <p:cTn id="241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250"/>
                            </p:stCondLst>
                            <p:childTnLst>
                              <p:par>
                                <p:cTn id="248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25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250"/>
                            </p:stCondLst>
                            <p:childTnLst>
                              <p:par>
                                <p:cTn id="26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75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F04-032C-4141-AB35-BBCF14B51E4D}" type="slidenum">
              <a:t>13</a:t>
            </a:fld>
          </a:p>
        </p:txBody>
      </p:sp>
    </p:spTree>
  </p:cSld>
  <p:transition spd="med" advTm="6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Увлечения обр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графия 5 марта 1960г., сделанная Альберто Кор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ва в моде, 76 лет назад гибель команданте дала толчок огромному культу, захватившему обе Америке и Евро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да в новом герое - символе у подрастающе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433548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9548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ор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87692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715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бин Гуд ХХ 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654-A366-41FE-9587-3CE508F2CE78}" type="slidenum">
              <a:t>14</a:t>
            </a:fld>
          </a:p>
        </p:txBody>
      </p:sp>
    </p:spTree>
  </p:cSld>
  <p:transition spd="med" advTm="60000"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9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573960" y="3352680"/>
            <a:ext cx="2570040" cy="3505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562720" y="1600200"/>
            <a:ext cx="3429000" cy="1643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038480" y="228600"/>
            <a:ext cx="1333800" cy="1886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971800" y="5334120"/>
            <a:ext cx="2133720" cy="146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2743200" cy="176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152280" y="2500200"/>
            <a:ext cx="2438640" cy="1690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934320" y="73080"/>
            <a:ext cx="2133360" cy="145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5116680" y="4343400"/>
            <a:ext cx="1360440" cy="196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DE7-1FF1-4BA4-8372-96849E41EB9C}" type="slidenum">
              <a:t>15</a:t>
            </a:fld>
          </a:p>
        </p:txBody>
      </p:sp>
    </p:spTree>
  </p:cSld>
  <p:transition spd="med" advTm="60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46240" y="5435640"/>
            <a:ext cx="1168560" cy="142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76084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54152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4670280"/>
            <a:ext cx="2744640" cy="218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971800" y="0"/>
            <a:ext cx="2133720" cy="1700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114800" y="4971960"/>
            <a:ext cx="1650960" cy="158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2743200" y="1600200"/>
            <a:ext cx="4038480" cy="337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71800" cy="1579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5962680" y="3352680"/>
            <a:ext cx="3181320" cy="3314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135400" y="460440"/>
            <a:ext cx="2103480" cy="12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1841400" y="3530520"/>
            <a:ext cx="135900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542-6BFB-432C-9B05-79FDA0E678D8}" type="slidenum">
              <a:t>16</a:t>
            </a:fld>
          </a:p>
        </p:txBody>
      </p:sp>
    </p:spTree>
  </p:cSld>
  <p:transition spd="med" advTm="60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E1A-918D-4736-A50E-740473FB71AB}" type="slidenum">
              <a:t>17</a:t>
            </a:fld>
          </a:p>
        </p:txBody>
      </p:sp>
    </p:spTree>
  </p:cSld>
  <p:transition spd="med" advTm="60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 Кормье, «Че Гевара: Спутник революции», Балашиха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 Калфон, «Че. Эрнесто Гевара, легенда нашего времени», Москва, 199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. Кастаньеда, «Пламенная жизнь. Биография Че Гевары», Москва, 199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4191120"/>
            <a:ext cx="426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http://www.el-comandan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http://chehasta.narod.ru/link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DE6-910A-4A03-B8B7-09C987A18A18}" type="slidenum">
              <a:t>18</a:t>
            </a:fld>
          </a:p>
        </p:txBody>
      </p:sp>
    </p:spTree>
  </p:cSld>
  <p:transition spd="med" advTm="6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17880" y="7221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715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960" y="689040"/>
            <a:ext cx="1893600" cy="459720"/>
          </a:xfrm>
          <a:prstGeom prst="rect">
            <a:avLst/>
          </a:prstGeom>
          <a:solidFill>
            <a:srgbClr val="ff0000">
              <a:alpha val="38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685800"/>
            <a:ext cx="2494080" cy="459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ь снач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1A4-0E2A-4608-A0E7-A60724B26AEE}" type="slidenum">
              <a:t>19</a:t>
            </a:fld>
          </a:p>
        </p:txBody>
      </p:sp>
    </p:spTree>
  </p:cSld>
  <p:transition spd="med" advTm="60000">
    <p:newsflash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971800" y="2060640"/>
            <a:ext cx="3106800" cy="2816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Arial Black"/>
              </a:rPr>
              <a:t>Че Гевар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304920" y="21337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049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Борь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943600" y="2133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ли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64771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мер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2590920" y="56386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браз сего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1CC-9CD0-4283-AA2E-309842CF76AB}" type="slidenum">
              <a:t>2</a:t>
            </a:fld>
          </a:p>
        </p:txBody>
      </p:sp>
    </p:spTree>
  </p:cSld>
  <p:transition spd="med" advTm="60000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3.0)">
                                      <p:cBhvr>
                                        <p:cTn id="34" dur="15235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42.857151031494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0958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999-9685-4FE1-BC34-94F0B404DCAF}" type="slidenum">
              <a:t>20</a:t>
            </a:fld>
          </a:p>
        </p:txBody>
      </p:sp>
    </p:spTree>
  </p:cSld>
  <p:transition spd="med" advTm="60000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687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876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 июня 1928г.  в Аргентине, г. Розарио, родился «последний революционер ХХ 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трудовой жизни: продает кни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ся на парикмахера, подрабатывает фоторепортером…..Поступает в мединстит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чив его, уезжает в Гватем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наковая встреча с Раулем Кастро и его                                                                                                                    --брат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д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Жи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486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48520" y="4811760"/>
            <a:ext cx="216684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64360" y="2590920"/>
            <a:ext cx="1217520" cy="167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162920" y="2489040"/>
            <a:ext cx="1376280" cy="17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F4A-5C2B-4C0C-AE13-6F85478636F2}" type="slidenum">
              <a:t>3</a:t>
            </a:fld>
          </a:p>
        </p:txBody>
      </p:sp>
    </p:spTree>
  </p:cSld>
  <p:transition spd="med" advTm="60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xit" presetID="2" presetSubtype="2">
                                  <p:stCondLst>
                                    <p:cond delay="1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Борь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5 ноября 1956г. Отправляется на Кубу сражаться за революцию вместе с десятками единомышл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 Гевара – самый умный офицер повстанческой армии Кас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а  в коммунизм, построенный на вооруженной борьбе не покидает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433548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985-2D54-4B6E-975C-16E597718646}" type="slidenum">
              <a:t>4</a:t>
            </a:fld>
          </a:p>
        </p:txBody>
      </p:sp>
    </p:spTree>
  </p:cSld>
  <p:transition spd="med" advTm="60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65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65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65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074-AA2E-47EA-81A7-3863390A8A83}" type="slidenum">
              <a:t>5</a:t>
            </a:fld>
          </a:p>
        </p:txBody>
      </p:sp>
    </p:spTree>
  </p:cSld>
  <p:transition spd="med" advTm="60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45B-2DC4-4BDB-BB93-168138484F27}" type="slidenum">
              <a:t>6</a:t>
            </a:fld>
          </a:p>
        </p:txBody>
      </p:sp>
    </p:spTree>
  </p:cSld>
  <p:transition spd="med" advTm="6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Отношение к 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ление Че осуществить доктрину «перманентной революции» раздражало руководство С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64г. Че проводит 3 месяца в Москве в качестве министра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5 февраля произошел настоящий разрыв с Моск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434340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0AC-B0B8-47B4-A941-FCCA50A9A375}" type="slidenum">
              <a:t>7</a:t>
            </a:fld>
          </a:p>
        </p:txBody>
      </p:sp>
    </p:spTree>
  </p:cSld>
  <p:transition spd="med" advTm="60000">
    <p:strips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1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18">
                                  <p:stCondLst>
                                    <p:cond delay="2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80"/>
                            </p:stCondLst>
                            <p:childTnLst>
                              <p:par>
                                <p:cTn id="1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700"/>
                            </p:stCondLst>
                            <p:childTnLst>
                              <p:par>
                                <p:cTn id="1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5D2-FB3E-467E-9944-146163EA9E60}" type="slidenum">
              <a:t>8</a:t>
            </a:fld>
          </a:p>
        </p:txBody>
      </p:sp>
    </p:spTree>
  </p:cSld>
  <p:transition spd="med" advTm="6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4343400"/>
            <a:ext cx="2743200" cy="2486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аз от власти на Кубе 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еволюционного кондотьер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ивия, Лас-Игерас, Че Гевара б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ен, взят в плен и расстрелян.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авлено на обоз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66724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7280" y="1752480"/>
            <a:ext cx="327672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71800" y="4470480"/>
            <a:ext cx="533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1997г. останки были обнаружены у Вальегранде, Боливия.  Тело было перезахоронено в Санта-Кла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Н. Дворянки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566-48D4-497D-9F1C-206126FABDCD}" type="slidenum">
              <a:t>9</a:t>
            </a:fld>
          </a:p>
        </p:txBody>
      </p:sp>
    </p:spTree>
  </p:cSld>
  <p:transition spd="med" advTm="60000">
    <p:plus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5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4-02-06T14:39:0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